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5.gif" ContentType="image/gif"/>
  <Override PartName="/ppt/media/image8.png" ContentType="image/png"/>
  <Override PartName="/ppt/media/image30.gif" ContentType="image/gif"/>
  <Override PartName="/ppt/media/image9.png" ContentType="image/png"/>
  <Override PartName="/ppt/media/image10.jpeg" ContentType="image/jpeg"/>
  <Override PartName="/ppt/media/image11.gif" ContentType="image/gif"/>
  <Override PartName="/ppt/media/image29.jpeg" ContentType="image/jpeg"/>
  <Override PartName="/ppt/media/image7.gif" ContentType="image/gif"/>
  <Override PartName="/ppt/media/image12.gif" ContentType="image/gif"/>
  <Override PartName="/ppt/media/image16.jpeg" ContentType="image/jpeg"/>
  <Override PartName="/ppt/media/image13.gif" ContentType="image/gif"/>
  <Override PartName="/ppt/media/image34.jpeg" ContentType="image/jpeg"/>
  <Override PartName="/ppt/media/image33.jpeg" ContentType="image/jpeg"/>
  <Override PartName="/ppt/media/image4.gif" ContentType="image/gif"/>
  <Override PartName="/ppt/media/image6.wmf" ContentType="image/x-wmf"/>
  <Override PartName="/ppt/media/image3.gif" ContentType="image/gif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24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15.jpeg" ContentType="image/jpeg"/>
  <Override PartName="/ppt/media/image18.jpeg" ContentType="image/jpeg"/>
  <Override PartName="/ppt/media/image26.gif" ContentType="image/gif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417-E1CB-497B-888A-07192C58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59E-38C4-458D-BC02-CF1393E9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D61-8D9C-46C0-A576-468634D1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B7C-224A-44E4-B743-C64CE603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1A50-A05F-4F3E-9637-C67F3790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B68A-77EC-4000-B383-C689E1A7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A836-F4C4-42D3-9352-8B50E38D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AFFF-2075-436D-A108-78837C86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73B5-8D71-4741-ADA4-22402922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1031-2AA1-4B23-8239-FD6A3A94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37C4-1CC4-4C0C-B56D-6176ABF4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08C-0365-41C0-A19C-BC292832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B629-998A-4F3F-AE06-FA6C200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F3A0-14BD-46E0-973E-3EF2F819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1C57-32E4-4289-94E7-004530A2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9BB7-FB0E-4CDD-B5A9-CC76427B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076E-4466-44C8-BB99-524BCD85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355-2537-418B-9607-D5C855BB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29C-C003-4BEE-BEE5-ED964C10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528-6A9A-4985-A9EE-E286F9FC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20B-3C77-4DA9-A39A-33BB7B00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E75-4783-4BC7-A2BF-311C1089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840-AB21-4F8E-B14E-D77658D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74C-FE81-4C05-8523-D2DB8FFB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C6FB-7D94-41E1-96F5-9A9FBFD051AF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FA28-185C-4371-8A1C-C8E6D0C782B8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4" descr=""/>
          <p:cNvPicPr/>
          <p:nvPr/>
        </p:nvPicPr>
        <p:blipFill>
          <a:blip r:embed="rId1"/>
          <a:stretch/>
        </p:blipFill>
        <p:spPr>
          <a:xfrm>
            <a:off x="476280" y="2335320"/>
            <a:ext cx="90392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295280" y="1989000"/>
          <a:ext cx="7848720" cy="228600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66"/>
                          </a:solidFill>
                          <a:latin typeface="Georgia"/>
                          <a:ea typeface="Times New Roman"/>
                        </a:rPr>
                        <a:t>На них музыка может остановиться или закончиться:</a:t>
                      </a:r>
                      <a:endParaRPr b="0" lang="en-US" sz="4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3" name="Group 23"/>
          <p:cNvGrpSpPr/>
          <p:nvPr/>
        </p:nvGrpSpPr>
        <p:grpSpPr>
          <a:xfrm>
            <a:off x="1116000" y="3357720"/>
            <a:ext cx="7412040" cy="3130560"/>
            <a:chOff x="1116000" y="3357720"/>
            <a:chExt cx="7412040" cy="3130560"/>
          </a:xfrm>
        </p:grpSpPr>
        <p:pic>
          <p:nvPicPr>
            <p:cNvPr id="164" name="Picture 8" descr="Горка"/>
            <p:cNvPicPr/>
            <p:nvPr/>
          </p:nvPicPr>
          <p:blipFill>
            <a:blip r:embed="rId1"/>
            <a:stretch/>
          </p:blipFill>
          <p:spPr>
            <a:xfrm>
              <a:off x="1116000" y="4797360"/>
              <a:ext cx="664992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9" descr="AR17"/>
            <p:cNvPicPr/>
            <p:nvPr/>
          </p:nvPicPr>
          <p:blipFill>
            <a:blip r:embed="rId2"/>
            <a:srcRect l="0" t="0" r="5032" b="0"/>
            <a:stretch/>
          </p:blipFill>
          <p:spPr>
            <a:xfrm>
              <a:off x="7091280" y="3357720"/>
              <a:ext cx="1436760" cy="2280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66" name=""/>
          <p:cNvGraphicFramePr/>
          <p:nvPr/>
        </p:nvGraphicFramePr>
        <p:xfrm>
          <a:off x="1295280" y="476280"/>
          <a:ext cx="7848720" cy="155412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66"/>
                          </a:solidFill>
                          <a:latin typeface="Georgia"/>
                          <a:ea typeface="Times New Roman"/>
                        </a:rPr>
                        <a:t>Одни звуки — </a:t>
                      </a:r>
                      <a:r>
                        <a:rPr b="1" lang="ru-RU" sz="4800" spc="-1" strike="noStrike" u="sng">
                          <a:solidFill>
                            <a:srgbClr val="660066"/>
                          </a:solidFill>
                          <a:uFillTx/>
                          <a:latin typeface="Georgia"/>
                          <a:ea typeface="Times New Roman"/>
                        </a:rPr>
                        <a:t>устойчивые.</a:t>
                      </a:r>
                      <a:r>
                        <a:rPr b="1" lang="ru-RU" sz="4800" spc="-1" strike="noStrike">
                          <a:solidFill>
                            <a:srgbClr val="660066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Как под горкой.MID" descr=""/>
          <p:cNvPicPr/>
          <p:nvPr/>
        </p:nvPicPr>
        <p:blipFill>
          <a:blip r:embed="rId3"/>
          <a:stretch/>
        </p:blipFill>
        <p:spPr>
          <a:xfrm>
            <a:off x="838836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5997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138320" y="476280"/>
          <a:ext cx="5759280" cy="1554120"/>
        </p:xfrm>
        <a:graphic>
          <a:graphicData uri="http://schemas.openxmlformats.org/drawingml/2006/table">
            <a:tbl>
              <a:tblPr/>
              <a:tblGrid>
                <a:gridCol w="575928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66"/>
                          </a:solidFill>
                          <a:latin typeface="Georgia"/>
                          <a:ea typeface="Times New Roman"/>
                        </a:rPr>
                        <a:t>Другие звуки — </a:t>
                      </a:r>
                      <a:r>
                        <a:rPr b="1" lang="ru-RU" sz="4800" spc="-1" strike="noStrike" u="sng">
                          <a:solidFill>
                            <a:srgbClr val="660066"/>
                          </a:solidFill>
                          <a:uFillTx/>
                          <a:latin typeface="Georgia"/>
                          <a:ea typeface="Times New Roman"/>
                        </a:rPr>
                        <a:t>неустойчивые.</a:t>
                      </a:r>
                      <a:r>
                        <a:rPr b="0" lang="ru-RU" sz="4800" spc="-1" strike="noStrike">
                          <a:solidFill>
                            <a:srgbClr val="660066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Picture 8" descr="PIRATE"/>
          <p:cNvPicPr/>
          <p:nvPr/>
        </p:nvPicPr>
        <p:blipFill>
          <a:blip r:embed="rId1"/>
          <a:srcRect l="0" t="0" r="-149" b="0"/>
          <a:stretch/>
        </p:blipFill>
        <p:spPr>
          <a:xfrm>
            <a:off x="6897600" y="320760"/>
            <a:ext cx="1584360" cy="228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1332000" y="1981080"/>
          <a:ext cx="8028000" cy="3032280"/>
        </p:xfrm>
        <a:graphic>
          <a:graphicData uri="http://schemas.openxmlformats.org/drawingml/2006/table">
            <a:tbl>
              <a:tblPr/>
              <a:tblGrid>
                <a:gridCol w="8028000"/>
              </a:tblGrid>
              <a:tr h="30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66"/>
                          </a:solidFill>
                          <a:latin typeface="Georgia"/>
                          <a:ea typeface="Times New Roman"/>
                        </a:rPr>
                        <a:t>Если на них остановиться, то музыка будет звучать незаконченно:</a:t>
                      </a:r>
                      <a:endParaRPr b="0" lang="en-US" sz="4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20" descr="Рисунок1"/>
          <p:cNvPicPr/>
          <p:nvPr/>
        </p:nvPicPr>
        <p:blipFill>
          <a:blip r:embed="rId2"/>
          <a:stretch/>
        </p:blipFill>
        <p:spPr>
          <a:xfrm>
            <a:off x="1187280" y="5013360"/>
            <a:ext cx="6553440" cy="1493640"/>
          </a:xfrm>
          <a:prstGeom prst="rect">
            <a:avLst/>
          </a:prstGeom>
          <a:ln w="0">
            <a:noFill/>
          </a:ln>
        </p:spPr>
      </p:pic>
      <p:pic>
        <p:nvPicPr>
          <p:cNvPr id="172" name="Уж как по мосту-мосточку.MID" descr=""/>
          <p:cNvPicPr/>
          <p:nvPr/>
        </p:nvPicPr>
        <p:blipFill>
          <a:blip r:embed="rId3"/>
          <a:stretch/>
        </p:blipFill>
        <p:spPr>
          <a:xfrm>
            <a:off x="831708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5997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R17"/>
          <p:cNvPicPr/>
          <p:nvPr/>
        </p:nvPicPr>
        <p:blipFill>
          <a:blip r:embed="rId1"/>
          <a:srcRect l="0" t="0" r="224" b="0"/>
          <a:stretch/>
        </p:blipFill>
        <p:spPr>
          <a:xfrm>
            <a:off x="5724360" y="4221000"/>
            <a:ext cx="1513080" cy="2286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4284720" y="501336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16000" y="690120"/>
            <a:ext cx="81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Поэтому неустойчивые звуки тянутся к устойчивым.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              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6" name="Picture 5" descr="PIRATE"/>
          <p:cNvPicPr/>
          <p:nvPr/>
        </p:nvPicPr>
        <p:blipFill>
          <a:blip r:embed="rId2"/>
          <a:srcRect l="4506" t="0" r="-149" b="0"/>
          <a:stretch/>
        </p:blipFill>
        <p:spPr>
          <a:xfrm>
            <a:off x="1979640" y="4221000"/>
            <a:ext cx="1512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403280" y="98028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Согласие между устойчивыми и неустойчивыми звуками  называют </a:t>
            </a:r>
            <a:r>
              <a:rPr b="1" lang="ru-RU" sz="6000" spc="-1" strike="noStrike" u="sng">
                <a:solidFill>
                  <a:srgbClr val="660066"/>
                </a:solidFill>
                <a:uFillTx/>
                <a:latin typeface="Georgia"/>
              </a:rPr>
              <a:t>ладом.</a:t>
            </a:r>
            <a:r>
              <a:rPr b="0" lang="ru-RU" sz="4800" spc="-1" strike="noStrike">
                <a:solidFill>
                  <a:srgbClr val="660066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8" name="Picture 3" descr="MARRIAGE"/>
          <p:cNvPicPr/>
          <p:nvPr/>
        </p:nvPicPr>
        <p:blipFill>
          <a:blip r:embed="rId1"/>
          <a:srcRect l="0" t="0" r="94" b="0"/>
          <a:stretch/>
        </p:blipFill>
        <p:spPr>
          <a:xfrm>
            <a:off x="179280" y="189000"/>
            <a:ext cx="14400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3"/>
          <p:cNvSpPr txBox="1"/>
          <p:nvPr/>
        </p:nvSpPr>
        <p:spPr>
          <a:xfrm>
            <a:off x="1692360" y="476280"/>
            <a:ext cx="61624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Два  лада</a:t>
            </a:r>
            <a:endParaRPr b="1" lang="en-US" sz="66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в  музыке</a:t>
            </a:r>
            <a:endParaRPr b="1" lang="en-US" sz="66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2771640" y="3429000"/>
            <a:ext cx="38912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7a005c"/>
                  </a:outerShdw>
                </a:effectLst>
                <a:latin typeface="Georgia"/>
              </a:rPr>
              <a:t>МАЖОР</a:t>
            </a:r>
            <a:endParaRPr b="1" lang="en-US" sz="8000" spc="1" strike="noStrike">
              <a:ln w="12600">
                <a:solidFill>
                  <a:srgbClr val="cc0099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7a005c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226400" y="4149720"/>
            <a:ext cx="88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66"/>
                </a:solidFill>
                <a:latin typeface="Georgia"/>
              </a:rPr>
              <a:t>и</a:t>
            </a:r>
            <a:endParaRPr b="0" lang="en-US" sz="8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WordArt 6"/>
          <p:cNvSpPr txBox="1"/>
          <p:nvPr/>
        </p:nvSpPr>
        <p:spPr>
          <a:xfrm>
            <a:off x="2771640" y="5516640"/>
            <a:ext cx="388620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МИНОР</a:t>
            </a:r>
            <a:endParaRPr b="1" lang="en-US" sz="8000" spc="1" strike="noStrike">
              <a:ln w="12600">
                <a:solidFill>
                  <a:srgbClr val="660066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7236000" y="3213000"/>
            <a:ext cx="1473120" cy="1471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7308720" y="5300640"/>
            <a:ext cx="1328760" cy="1008000"/>
          </a:xfrm>
          <a:prstGeom prst="cloudCallout">
            <a:avLst>
              <a:gd name="adj1" fmla="val -45342"/>
              <a:gd name="adj2" fmla="val 37560"/>
            </a:avLst>
          </a:prstGeom>
          <a:solidFill>
            <a:srgbClr val="9933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1908000" y="3933720"/>
            <a:ext cx="2192400" cy="2192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86" name="Жизель.avi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87" name="WordArt 5"/>
          <p:cNvSpPr txBox="1"/>
          <p:nvPr/>
        </p:nvSpPr>
        <p:spPr>
          <a:xfrm>
            <a:off x="826920" y="836640"/>
            <a:ext cx="8153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Georgia"/>
              </a:rPr>
              <a:t>     </a:t>
            </a:r>
            <a:r>
              <a:rPr b="1" lang="en-US" sz="80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Georgia"/>
              </a:rPr>
              <a:t>МАЖОР -</a:t>
            </a:r>
            <a:endParaRPr b="1" lang="en-US" sz="8000" spc="1" strike="noStrike">
              <a:ln w="9360">
                <a:solidFill>
                  <a:srgbClr val="660066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Georgia"/>
              </a:rPr>
              <a:t> </a:t>
            </a:r>
            <a:r>
              <a:rPr b="1" lang="en-US" sz="80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Georgia"/>
              </a:rPr>
              <a:t>СВЕТЛЫЙ  ЛАД</a:t>
            </a:r>
            <a:endParaRPr b="1" lang="en-US" sz="8000" spc="1" strike="noStrike">
              <a:ln w="9360">
                <a:solidFill>
                  <a:srgbClr val="660066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41800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1979640" y="4365720"/>
            <a:ext cx="2047680" cy="1366920"/>
          </a:xfrm>
          <a:prstGeom prst="cloudCallout">
            <a:avLst>
              <a:gd name="adj1" fmla="val -43486"/>
              <a:gd name="adj2" fmla="val 43379"/>
            </a:avLst>
          </a:prstGeom>
          <a:solidFill>
            <a:srgbClr val="9933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89" name="Дон_Кихот.avi" descr=""/>
          <p:cNvPicPr/>
          <p:nvPr/>
        </p:nvPicPr>
        <p:blipFill>
          <a:blip r:embed="rId1"/>
          <a:stretch/>
        </p:blipFill>
        <p:spPr>
          <a:xfrm>
            <a:off x="5219640" y="414972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90" name="WordArt 5"/>
          <p:cNvSpPr txBox="1"/>
          <p:nvPr/>
        </p:nvSpPr>
        <p:spPr>
          <a:xfrm>
            <a:off x="1116000" y="836640"/>
            <a:ext cx="7829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Georgia"/>
              </a:rPr>
              <a:t>    </a:t>
            </a:r>
            <a:r>
              <a:rPr b="1" lang="en-US" sz="80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Georgia"/>
              </a:rPr>
              <a:t>МИНОР -</a:t>
            </a:r>
            <a:endParaRPr b="1" lang="en-US" sz="8000" spc="1" strike="noStrike">
              <a:ln w="9360">
                <a:solidFill>
                  <a:srgbClr val="660066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Georgia"/>
              </a:rPr>
              <a:t> </a:t>
            </a:r>
            <a:r>
              <a:rPr b="1" lang="en-US" sz="80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Georgia"/>
              </a:rPr>
              <a:t>ТЁМНЫЙ  ЛАД</a:t>
            </a:r>
            <a:endParaRPr b="1" lang="en-US" sz="8000" spc="1" strike="noStrike">
              <a:ln w="9360">
                <a:solidFill>
                  <a:srgbClr val="660066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41867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8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826920" y="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Иногда  в  одном </a:t>
            </a:r>
            <a:endParaRPr b="0" lang="en-US" sz="6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произведении  они</a:t>
            </a:r>
            <a:endParaRPr b="0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564000" y="2060640"/>
            <a:ext cx="2047680" cy="1366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33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187280" y="4653000"/>
            <a:ext cx="2048040" cy="1366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33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6227640" y="4581360"/>
            <a:ext cx="2048040" cy="1366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33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492360" y="3429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или</a:t>
            </a:r>
            <a:endParaRPr b="0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1844640"/>
            <a:ext cx="2192400" cy="2192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6156360" y="1844640"/>
            <a:ext cx="2192400" cy="2192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3564000" y="4437000"/>
            <a:ext cx="2192400" cy="2192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348920" y="765000"/>
            <a:ext cx="743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Ф. Шопен «Вальс»</a:t>
            </a:r>
            <a:endParaRPr b="0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3564000" y="2060640"/>
            <a:ext cx="2047680" cy="1366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33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1187280" y="4653000"/>
            <a:ext cx="2048040" cy="1366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33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227640" y="4581360"/>
            <a:ext cx="2048040" cy="1366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33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492360" y="3429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или</a:t>
            </a:r>
            <a:endParaRPr b="0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042920" y="1844640"/>
            <a:ext cx="2192400" cy="2192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156360" y="1844640"/>
            <a:ext cx="2192400" cy="2192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3564000" y="4437000"/>
            <a:ext cx="2192400" cy="2192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07" name="Шопен Вальс.wav" descr=""/>
          <p:cNvPicPr/>
          <p:nvPr/>
        </p:nvPicPr>
        <p:blipFill>
          <a:blip r:embed="rId1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9734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050920" y="1052640"/>
            <a:ext cx="707868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Можно  ли  почувствовать  изменение  настроения  в  поэзии?</a:t>
            </a:r>
            <a:r>
              <a:rPr b="1" lang="ru-RU" sz="6000" spc="-1" strike="noStrike">
                <a:solidFill>
                  <a:srgbClr val="d60093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09" name="Picture 3" descr="01_08_W"/>
          <p:cNvPicPr/>
          <p:nvPr/>
        </p:nvPicPr>
        <p:blipFill>
          <a:blip r:embed="rId1"/>
          <a:stretch/>
        </p:blipFill>
        <p:spPr>
          <a:xfrm>
            <a:off x="1116000" y="692280"/>
            <a:ext cx="14144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16000" y="692280"/>
            <a:ext cx="802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«От  улыбки  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Солнечной  одной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Перестанет  плакать  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Самый  грустный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                      </a:t>
            </a: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дождик…»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          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          </a:t>
            </a: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М.Пляцковский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00cc"/>
                </a:solidFill>
                <a:latin typeface="Monotype Corsiva"/>
              </a:rPr>
              <a:t>                                                            </a:t>
            </a:r>
            <a:endParaRPr b="0" lang="en-US" sz="1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2987640" y="3716280"/>
            <a:ext cx="182880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3419640" y="4149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Cloud"/>
          <p:cNvSpPr/>
          <p:nvPr/>
        </p:nvSpPr>
        <p:spPr>
          <a:xfrm>
            <a:off x="1187280" y="4149720"/>
            <a:ext cx="1648080" cy="1103400"/>
          </a:xfrm>
          <a:custGeom>
            <a:avLst/>
            <a:gdLst>
              <a:gd name="textAreaLeft" fmla="*/ 227160 w 1648080"/>
              <a:gd name="textAreaRight" fmla="*/ 1303920 w 1648080"/>
              <a:gd name="textAreaTop" fmla="*/ 166680 h 1103400"/>
              <a:gd name="textAreaBottom" fmla="*/ 885600 h 11034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66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Приэльбрусье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15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Зимнее утро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Мороз  и  солнце;  день чудесный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Ещё  ты  дремлешь,  друг  прелестный, -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Пора,  красавица,  проснись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Открой  сомкнуты  негой  взоры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Навстречу  северной  Авроры,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Звездою  севера  явись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Мещерский_Зима Ледокол"/>
          <p:cNvPicPr/>
          <p:nvPr/>
        </p:nvPicPr>
        <p:blipFill>
          <a:blip r:embed="rId1"/>
          <a:stretch/>
        </p:blipFill>
        <p:spPr>
          <a:xfrm>
            <a:off x="0" y="-96840"/>
            <a:ext cx="10725120" cy="6954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1403280" y="0"/>
            <a:ext cx="8987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Вечор,  ты  помнишь,  вьюга  злилась,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На  мутном  небе  мгла  носилась;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Луна,  как  бледное  пятно,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Сквозь  тучи  мрачные  желтела,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И  ты  печальная  сидела  -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А  нынче … погляди  в  окно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Заснеженные ел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5148360" y="0"/>
            <a:ext cx="50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771640" y="0"/>
            <a:ext cx="8844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Под  голубыми  небесами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Великолепными  коврами,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Блестя  на  солнце,  снег  лежит;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Прозрачный  лес  один  чернеет,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И  ель  сквозь  иней  зеленеет,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И  речка  подо  льдом  блестит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А.С. Пушкин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1476360" y="692280"/>
            <a:ext cx="6915240" cy="41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Подумайте  </a:t>
            </a:r>
            <a:endParaRPr b="1" lang="en-US" sz="96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и  </a:t>
            </a:r>
            <a:endParaRPr b="1" lang="en-US" sz="96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3d003d"/>
                  </a:outerShdw>
                </a:effectLst>
                <a:latin typeface="Georgia"/>
              </a:rPr>
              <a:t>ответьте!</a:t>
            </a:r>
            <a:endParaRPr b="1" lang="en-US" sz="96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3d003d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218" name="Picture 3" descr="ae7125b032b97b698f903407ce24b4c0[1]"/>
          <p:cNvPicPr/>
          <p:nvPr/>
        </p:nvPicPr>
        <p:blipFill>
          <a:blip r:embed="rId1"/>
          <a:stretch/>
        </p:blipFill>
        <p:spPr>
          <a:xfrm>
            <a:off x="4140360" y="5373720"/>
            <a:ext cx="11714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1600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Что  такое лад?</a:t>
            </a:r>
            <a:r>
              <a:rPr b="1" lang="ru-RU" sz="6000" spc="-1" strike="noStrike">
                <a:solidFill>
                  <a:srgbClr val="d60093"/>
                </a:solidFill>
                <a:latin typeface="Impact"/>
              </a:rPr>
              <a:t>  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3635280" y="4292640"/>
            <a:ext cx="1727280" cy="1533600"/>
          </a:xfrm>
          <a:custGeom>
            <a:avLst/>
            <a:gdLst>
              <a:gd name="textAreaLeft" fmla="*/ 402840 w 1727280"/>
              <a:gd name="textAreaRight" fmla="*/ 1324080 w 1727280"/>
              <a:gd name="textAreaTop" fmla="*/ 161640 h 1533600"/>
              <a:gd name="textAreaBottom" fmla="*/ 971280 h 1533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d6009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0080"/>
            </a:solidFill>
            <a:miter/>
          </a:ln>
          <a:effectLst>
            <a:outerShdw dist="17819" dir="2700000" blurRad="0" rotWithShape="0">
              <a:srgbClr val="4d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4284720" y="4508640"/>
            <a:ext cx="1763640" cy="1533240"/>
          </a:xfrm>
          <a:custGeom>
            <a:avLst/>
            <a:gdLst>
              <a:gd name="textAreaLeft" fmla="*/ 411120 w 1763640"/>
              <a:gd name="textAreaRight" fmla="*/ 1351800 w 1763640"/>
              <a:gd name="textAreaTop" fmla="*/ 161640 h 1533240"/>
              <a:gd name="textAreaBottom" fmla="*/ 970920 h 1533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99"/>
            </a:solidFill>
            <a:miter/>
          </a:ln>
          <a:effectLst>
            <a:outerShdw dist="17819" dir="2700000" blurRad="0" rotWithShape="0">
              <a:srgbClr val="7a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187280" y="2708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Georgia"/>
              </a:rPr>
              <a:t>Это согласие.</a:t>
            </a:r>
            <a:endParaRPr b="0" lang="en-US" sz="8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16000" y="62028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Какие  два  лада  в  музыке  вы  знаете?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7020000" y="4508640"/>
            <a:ext cx="1727280" cy="1533240"/>
          </a:xfrm>
          <a:custGeom>
            <a:avLst/>
            <a:gdLst>
              <a:gd name="textAreaLeft" fmla="*/ 402840 w 1727280"/>
              <a:gd name="textAreaRight" fmla="*/ 1324080 w 1727280"/>
              <a:gd name="textAreaTop" fmla="*/ 161640 h 1533240"/>
              <a:gd name="textAreaBottom" fmla="*/ 970920 h 1533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d6009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0080"/>
            </a:solidFill>
            <a:miter/>
          </a:ln>
          <a:effectLst>
            <a:outerShdw dist="17819" dir="2700000" blurRad="0" rotWithShape="0">
              <a:srgbClr val="4d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5435640" y="3357720"/>
            <a:ext cx="1763640" cy="1533240"/>
          </a:xfrm>
          <a:custGeom>
            <a:avLst/>
            <a:gdLst>
              <a:gd name="textAreaLeft" fmla="*/ 411120 w 1763640"/>
              <a:gd name="textAreaRight" fmla="*/ 1351800 w 1763640"/>
              <a:gd name="textAreaTop" fmla="*/ 161640 h 1533240"/>
              <a:gd name="textAreaBottom" fmla="*/ 970920 h 1533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99"/>
            </a:solidFill>
            <a:miter/>
          </a:ln>
          <a:effectLst>
            <a:outerShdw dist="17819" dir="2700000" blurRad="0" rotWithShape="0">
              <a:srgbClr val="7a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187280" y="3573360"/>
            <a:ext cx="7772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Georgia"/>
              </a:rPr>
              <a:t>Мажор </a:t>
            </a:r>
            <a:endParaRPr b="0" lang="en-US" sz="8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Georgia"/>
              </a:rPr>
              <a:t>и минор.</a:t>
            </a:r>
            <a:endParaRPr b="0" lang="en-US" sz="8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116000" y="620640"/>
            <a:ext cx="77724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Как изменяется лад в «Вальсе»    Ф. Шопена?</a:t>
            </a:r>
            <a:endParaRPr b="0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187280" y="3186000"/>
            <a:ext cx="77724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Georgia"/>
              </a:rPr>
              <a:t>Минор</a:t>
            </a:r>
            <a:endParaRPr b="0" lang="en-US" sz="8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Georgia"/>
              </a:rPr>
              <a:t>мажор</a:t>
            </a:r>
            <a:endParaRPr b="0" lang="en-US" sz="8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Georgia"/>
              </a:rPr>
              <a:t>минор.</a:t>
            </a:r>
            <a:endParaRPr b="0" lang="en-US" sz="8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AutoShape 4"/>
          <p:cNvSpPr/>
          <p:nvPr/>
        </p:nvSpPr>
        <p:spPr>
          <a:xfrm rot="16943400">
            <a:off x="5554440" y="4894200"/>
            <a:ext cx="1727280" cy="1533240"/>
          </a:xfrm>
          <a:custGeom>
            <a:avLst/>
            <a:gdLst>
              <a:gd name="textAreaLeft" fmla="*/ 402840 w 1727280"/>
              <a:gd name="textAreaRight" fmla="*/ 1324080 w 1727280"/>
              <a:gd name="textAreaTop" fmla="*/ 161640 h 1533240"/>
              <a:gd name="textAreaBottom" fmla="*/ 970920 h 1533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d6009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0080"/>
            </a:solidFill>
            <a:miter/>
          </a:ln>
          <a:effectLst>
            <a:outerShdw dist="17819" dir="2700000" blurRad="0" rotWithShape="0">
              <a:srgbClr val="4d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6300720" y="4292640"/>
            <a:ext cx="1763640" cy="1533600"/>
          </a:xfrm>
          <a:custGeom>
            <a:avLst/>
            <a:gdLst>
              <a:gd name="textAreaLeft" fmla="*/ 411120 w 1763640"/>
              <a:gd name="textAreaRight" fmla="*/ 1351800 w 1763640"/>
              <a:gd name="textAreaTop" fmla="*/ 161640 h 1533600"/>
              <a:gd name="textAreaBottom" fmla="*/ 971280 h 1533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99"/>
            </a:solidFill>
            <a:miter/>
          </a:ln>
          <a:effectLst>
            <a:outerShdw dist="17819" dir="2700000" blurRad="0" rotWithShape="0">
              <a:srgbClr val="7a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AutoShape 6"/>
          <p:cNvSpPr/>
          <p:nvPr/>
        </p:nvSpPr>
        <p:spPr>
          <a:xfrm rot="4705800">
            <a:off x="7067520" y="4894200"/>
            <a:ext cx="1727280" cy="1533600"/>
          </a:xfrm>
          <a:custGeom>
            <a:avLst/>
            <a:gdLst>
              <a:gd name="textAreaLeft" fmla="*/ 402840 w 1727280"/>
              <a:gd name="textAreaRight" fmla="*/ 1324080 w 1727280"/>
              <a:gd name="textAreaTop" fmla="*/ 161640 h 1533600"/>
              <a:gd name="textAreaBottom" fmla="*/ 971280 h 1533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d6009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0080"/>
            </a:solidFill>
            <a:miter/>
          </a:ln>
          <a:effectLst>
            <a:outerShdw dist="17819" dir="2700000" blurRad="0" rotWithShape="0">
              <a:srgbClr val="4d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1600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Где,  кроме  музыки,  мы  наблюдали  изменение  настроения?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33" name="Picture 3" descr="пишу письмо"/>
          <p:cNvPicPr/>
          <p:nvPr/>
        </p:nvPicPr>
        <p:blipFill>
          <a:blip r:embed="rId1"/>
          <a:stretch/>
        </p:blipFill>
        <p:spPr>
          <a:xfrm>
            <a:off x="7093080" y="4941720"/>
            <a:ext cx="1600200" cy="1500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"/>
          <p:cNvSpPr/>
          <p:nvPr/>
        </p:nvSpPr>
        <p:spPr>
          <a:xfrm>
            <a:off x="1116000" y="5013360"/>
            <a:ext cx="777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Georgia"/>
              </a:rPr>
              <a:t>В  поэзии.</a:t>
            </a:r>
            <a:endParaRPr b="0" lang="en-US" sz="8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16000" y="62028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Какими  красками   вы  нарисовали  бы  «мажорную»  картину,  а  какими –  «минорную»?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36" name="Picture 3" descr="палитра"/>
          <p:cNvPicPr/>
          <p:nvPr/>
        </p:nvPicPr>
        <p:blipFill>
          <a:blip r:embed="rId1"/>
          <a:stretch/>
        </p:blipFill>
        <p:spPr>
          <a:xfrm>
            <a:off x="7380360" y="4797360"/>
            <a:ext cx="1428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Кустодиев_Масленица"/>
          <p:cNvPicPr/>
          <p:nvPr/>
        </p:nvPicPr>
        <p:blipFill>
          <a:blip r:embed="rId1"/>
          <a:srcRect l="0" t="0" r="0" b="-20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1042920" y="5229360"/>
            <a:ext cx="81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611280" y="573408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Georgia"/>
              </a:rPr>
              <a:t>Б. Кустодиев  «Масленица»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ship6"/>
          <p:cNvPicPr/>
          <p:nvPr/>
        </p:nvPicPr>
        <p:blipFill>
          <a:blip r:embed="rId1"/>
          <a:stretch/>
        </p:blipFill>
        <p:spPr>
          <a:xfrm>
            <a:off x="1835280" y="4005360"/>
            <a:ext cx="2377800" cy="23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ship10"/>
          <p:cNvPicPr/>
          <p:nvPr/>
        </p:nvPicPr>
        <p:blipFill>
          <a:blip r:embed="rId2"/>
          <a:stretch/>
        </p:blipFill>
        <p:spPr>
          <a:xfrm>
            <a:off x="5076720" y="4005360"/>
            <a:ext cx="2857680" cy="23810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0"/>
          <p:cNvSpPr txBox="1"/>
          <p:nvPr/>
        </p:nvSpPr>
        <p:spPr>
          <a:xfrm>
            <a:off x="1190520" y="692280"/>
            <a:ext cx="7953480" cy="31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660066"/>
                </a:solidFill>
                <a:latin typeface="Georgia"/>
              </a:rPr>
              <a:t>КАК  ИЗМЕНИТЬ </a:t>
            </a:r>
            <a:endParaRPr b="1" lang="en-US" sz="7200" spc="1" strike="noStrike">
              <a:ln w="0">
                <a:noFill/>
              </a:ln>
              <a:solidFill>
                <a:srgbClr val="660066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660066"/>
                </a:solidFill>
                <a:latin typeface="Georgia"/>
              </a:rPr>
              <a:t> </a:t>
            </a:r>
            <a:r>
              <a:rPr b="1" lang="en-US" sz="7200" spc="1" strike="noStrike">
                <a:ln w="0">
                  <a:noFill/>
                </a:ln>
                <a:solidFill>
                  <a:srgbClr val="660066"/>
                </a:solidFill>
                <a:latin typeface="Georgia"/>
              </a:rPr>
              <a:t>НАСТРОЕНИЕ </a:t>
            </a:r>
            <a:endParaRPr b="1" lang="en-US" sz="7200" spc="1" strike="noStrike">
              <a:ln w="0">
                <a:noFill/>
              </a:ln>
              <a:solidFill>
                <a:srgbClr val="660066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660066"/>
                </a:solidFill>
                <a:latin typeface="Georgia"/>
              </a:rPr>
              <a:t> </a:t>
            </a:r>
            <a:r>
              <a:rPr b="1" lang="en-US" sz="7200" spc="1" strike="noStrike">
                <a:ln w="0">
                  <a:noFill/>
                </a:ln>
                <a:solidFill>
                  <a:srgbClr val="660066"/>
                </a:solidFill>
                <a:latin typeface="Georgia"/>
              </a:rPr>
              <a:t>МУЗЫКИ?</a:t>
            </a:r>
            <a:endParaRPr b="1" lang="en-US" sz="7200" spc="1" strike="noStrike">
              <a:ln w="0">
                <a:noFill/>
              </a:ln>
              <a:solidFill>
                <a:srgbClr val="660066"/>
              </a:solidFill>
              <a:latin typeface="Georgia"/>
              <a:ea typeface="Georgia"/>
            </a:endParaRPr>
          </a:p>
        </p:txBody>
      </p:sp>
      <p:pic>
        <p:nvPicPr>
          <p:cNvPr id="109" name="Picture 11" descr="image005"/>
          <p:cNvPicPr/>
          <p:nvPr/>
        </p:nvPicPr>
        <p:blipFill>
          <a:blip r:embed="rId3"/>
          <a:stretch/>
        </p:blipFill>
        <p:spPr>
          <a:xfrm>
            <a:off x="6877080" y="3789360"/>
            <a:ext cx="1071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Лад"/>
          <p:cNvPicPr/>
          <p:nvPr/>
        </p:nvPicPr>
        <p:blipFill>
          <a:blip r:embed="rId1"/>
          <a:srcRect l="0" t="0" r="0" b="-47"/>
          <a:stretch/>
        </p:blipFill>
        <p:spPr>
          <a:xfrm>
            <a:off x="1403280" y="0"/>
            <a:ext cx="66582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403280" y="554688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И. Левитан  «Осенний  день.  Сокольники»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116000" y="549360"/>
            <a:ext cx="7848720" cy="60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Можно  изменить:</a:t>
            </a:r>
            <a:endParaRPr b="0" lang="en-US" sz="6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660066"/>
              </a:buClr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интонацию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660066"/>
              </a:buClr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темп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660066"/>
              </a:buClr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динамику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660066"/>
              </a:buClr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лад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1" name="Picture 13" descr="j0293234"/>
          <p:cNvPicPr/>
          <p:nvPr/>
        </p:nvPicPr>
        <p:blipFill>
          <a:blip r:embed="rId1"/>
          <a:stretch/>
        </p:blipFill>
        <p:spPr>
          <a:xfrm>
            <a:off x="6227640" y="3068640"/>
            <a:ext cx="1255680" cy="925560"/>
          </a:xfrm>
          <a:prstGeom prst="rect">
            <a:avLst/>
          </a:prstGeom>
          <a:ln w="0">
            <a:noFill/>
          </a:ln>
        </p:spPr>
      </p:pic>
      <p:sp>
        <p:nvSpPr>
          <p:cNvPr id="112" name="Sound"/>
          <p:cNvSpPr/>
          <p:nvPr/>
        </p:nvSpPr>
        <p:spPr>
          <a:xfrm>
            <a:off x="6659640" y="4508640"/>
            <a:ext cx="730080" cy="730080"/>
          </a:xfrm>
          <a:custGeom>
            <a:avLst/>
            <a:gdLst>
              <a:gd name="textAreaLeft" fmla="*/ 25560 w 730080"/>
              <a:gd name="textAreaRight" fmla="*/ 712440 w 730080"/>
              <a:gd name="textAreaTop" fmla="*/ 759240 h 730080"/>
              <a:gd name="textAreaBottom" fmla="*/ 956160 h 730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3" name="Picture 31" descr="j0336978"/>
          <p:cNvPicPr/>
          <p:nvPr/>
        </p:nvPicPr>
        <p:blipFill>
          <a:blip r:embed="rId2"/>
          <a:stretch/>
        </p:blipFill>
        <p:spPr>
          <a:xfrm>
            <a:off x="8101080" y="458136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41"/>
          <p:cNvSpPr/>
          <p:nvPr/>
        </p:nvSpPr>
        <p:spPr>
          <a:xfrm>
            <a:off x="6588000" y="2205000"/>
            <a:ext cx="874800" cy="528840"/>
          </a:xfrm>
          <a:custGeom>
            <a:avLst/>
            <a:gdLst>
              <a:gd name="textAreaLeft" fmla="*/ 153000 w 874800"/>
              <a:gd name="textAreaRight" fmla="*/ 634320 w 874800"/>
              <a:gd name="textAreaTop" fmla="*/ 70560 h 528840"/>
              <a:gd name="textAreaBottom" fmla="*/ 458280 h 5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AutoShape 42"/>
          <p:cNvSpPr/>
          <p:nvPr/>
        </p:nvSpPr>
        <p:spPr>
          <a:xfrm>
            <a:off x="7956720" y="2205000"/>
            <a:ext cx="874440" cy="528840"/>
          </a:xfrm>
          <a:custGeom>
            <a:avLst/>
            <a:gdLst>
              <a:gd name="textAreaLeft" fmla="*/ 153000 w 874440"/>
              <a:gd name="textAreaRight" fmla="*/ 633960 w 874440"/>
              <a:gd name="textAreaTop" fmla="*/ 70560 h 528840"/>
              <a:gd name="textAreaBottom" fmla="*/ 458280 h 528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WordArt 43"/>
          <p:cNvSpPr txBox="1"/>
          <p:nvPr/>
        </p:nvSpPr>
        <p:spPr>
          <a:xfrm>
            <a:off x="6804000" y="5589720"/>
            <a:ext cx="44928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?</a:t>
            </a:r>
            <a:endParaRPr b="1" lang="en-US" sz="9600" spc="1" strike="noStrike">
              <a:ln w="1260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117" name="WordArt 45"/>
          <p:cNvSpPr txBox="1"/>
          <p:nvPr/>
        </p:nvSpPr>
        <p:spPr>
          <a:xfrm>
            <a:off x="8172360" y="5589720"/>
            <a:ext cx="44928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?</a:t>
            </a:r>
            <a:endParaRPr b="1" lang="en-US" sz="9600" spc="1" strike="noStrike">
              <a:ln w="1260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pic>
        <p:nvPicPr>
          <p:cNvPr id="118" name="Picture 46" descr="ТРАКТОР"/>
          <p:cNvPicPr/>
          <p:nvPr/>
        </p:nvPicPr>
        <p:blipFill>
          <a:blip r:embed="rId3"/>
          <a:stretch/>
        </p:blipFill>
        <p:spPr>
          <a:xfrm>
            <a:off x="7956720" y="3213000"/>
            <a:ext cx="8888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лад1"/>
          <p:cNvPicPr/>
          <p:nvPr/>
        </p:nvPicPr>
        <p:blipFill>
          <a:blip r:embed="rId1"/>
          <a:srcRect l="0" t="0" r="5" b="0"/>
          <a:stretch/>
        </p:blipFill>
        <p:spPr>
          <a:xfrm>
            <a:off x="1258920" y="620640"/>
            <a:ext cx="6769080" cy="5505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116000" y="61657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М. Нестеров «Два лада»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5"/>
          <p:cNvSpPr txBox="1"/>
          <p:nvPr/>
        </p:nvSpPr>
        <p:spPr>
          <a:xfrm>
            <a:off x="1187280" y="692280"/>
            <a:ext cx="309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d6009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Georgia"/>
              </a:rPr>
              <a:t>ЛАД -</a:t>
            </a:r>
            <a:endParaRPr b="1" lang="en-US" sz="3200" spc="1" strike="noStrike">
              <a:ln w="9360">
                <a:solidFill>
                  <a:srgbClr val="d6009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925160" y="5734080"/>
            <a:ext cx="4208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Georgia"/>
              </a:rPr>
              <a:t>З. Серебрякова 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Georgia"/>
              </a:rPr>
              <a:t>«Автопортрет  с  дочерьми»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1619280" y="2781360"/>
            <a:ext cx="208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d6009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Georgia"/>
              </a:rPr>
              <a:t>ЭТО</a:t>
            </a:r>
            <a:endParaRPr b="1" lang="en-US" sz="3200" spc="1" strike="noStrike">
              <a:ln w="9360">
                <a:solidFill>
                  <a:srgbClr val="d6009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124" name="WordArt 10"/>
          <p:cNvSpPr txBox="1"/>
          <p:nvPr/>
        </p:nvSpPr>
        <p:spPr>
          <a:xfrm>
            <a:off x="179280" y="4797360"/>
            <a:ext cx="511344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Georgia"/>
              </a:rPr>
              <a:t>СОГЛАСИЕ.</a:t>
            </a:r>
            <a:endParaRPr b="1" lang="en-US" sz="32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pic>
        <p:nvPicPr>
          <p:cNvPr id="125" name="Picture 11" descr="Серебрякова_Автопортрет с дочерьми "/>
          <p:cNvPicPr/>
          <p:nvPr/>
        </p:nvPicPr>
        <p:blipFill>
          <a:blip r:embed="rId1"/>
          <a:stretch/>
        </p:blipFill>
        <p:spPr>
          <a:xfrm>
            <a:off x="5148360" y="189000"/>
            <a:ext cx="377496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224000" y="7650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Музыкальный лад      похож на конструктор.</a:t>
            </a: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 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3348000" y="3716280"/>
            <a:ext cx="2569680" cy="2570040"/>
            <a:chOff x="3348000" y="3716280"/>
            <a:chExt cx="2569680" cy="2570040"/>
          </a:xfrm>
        </p:grpSpPr>
        <p:sp>
          <p:nvSpPr>
            <p:cNvPr id="128" name="Puzzle3"/>
            <p:cNvSpPr/>
            <p:nvPr/>
          </p:nvSpPr>
          <p:spPr>
            <a:xfrm>
              <a:off x="4599360" y="3716280"/>
              <a:ext cx="1010160" cy="1365840"/>
            </a:xfrm>
            <a:custGeom>
              <a:avLst/>
              <a:gdLst>
                <a:gd name="textAreaLeft" fmla="*/ 105840 w 1010160"/>
                <a:gd name="textAreaRight" fmla="*/ 896040 w 1010160"/>
                <a:gd name="textAreaTop" fmla="*/ 488160 h 1365840"/>
                <a:gd name="textAreaBottom" fmla="*/ 1279440 h 136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00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Puzzle2"/>
            <p:cNvSpPr/>
            <p:nvPr/>
          </p:nvSpPr>
          <p:spPr>
            <a:xfrm>
              <a:off x="4305600" y="4711320"/>
              <a:ext cx="1612080" cy="1243800"/>
            </a:xfrm>
            <a:custGeom>
              <a:avLst/>
              <a:gdLst>
                <a:gd name="textAreaLeft" fmla="*/ 402480 w 1612080"/>
                <a:gd name="textAreaRight" fmla="*/ 1207800 w 1612080"/>
                <a:gd name="textAreaTop" fmla="*/ 387720 h 1243800"/>
                <a:gd name="textAreaBottom" fmla="*/ 1177200 h 124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Puzzle4"/>
            <p:cNvSpPr/>
            <p:nvPr/>
          </p:nvSpPr>
          <p:spPr>
            <a:xfrm>
              <a:off x="3681720" y="4695840"/>
              <a:ext cx="972000" cy="1590480"/>
            </a:xfrm>
            <a:custGeom>
              <a:avLst/>
              <a:gdLst>
                <a:gd name="textAreaLeft" fmla="*/ 93240 w 972000"/>
                <a:gd name="textAreaRight" fmla="*/ 909720 w 972000"/>
                <a:gd name="textAreaTop" fmla="*/ 416520 h 1590480"/>
                <a:gd name="textAreaBottom" fmla="*/ 1176480 h 159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Puzzle1"/>
            <p:cNvSpPr/>
            <p:nvPr/>
          </p:nvSpPr>
          <p:spPr>
            <a:xfrm>
              <a:off x="3348000" y="4129560"/>
              <a:ext cx="1632240" cy="948240"/>
            </a:xfrm>
            <a:custGeom>
              <a:avLst/>
              <a:gdLst>
                <a:gd name="textAreaLeft" fmla="*/ 459720 w 1632240"/>
                <a:gd name="textAreaRight" fmla="*/ 1218960 w 1632240"/>
                <a:gd name="textAreaTop" fmla="*/ 112680 h 948240"/>
                <a:gd name="textAreaBottom" fmla="*/ 858240 h 94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224000" y="69228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Его детали - музыкальные звуки.</a:t>
            </a:r>
            <a:r>
              <a:rPr b="1" lang="ru-RU" sz="4000" spc="-1" strike="noStrike">
                <a:solidFill>
                  <a:srgbClr val="660066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Puzzle3"/>
          <p:cNvSpPr/>
          <p:nvPr/>
        </p:nvSpPr>
        <p:spPr>
          <a:xfrm>
            <a:off x="6732720" y="4437000"/>
            <a:ext cx="1011240" cy="1365480"/>
          </a:xfrm>
          <a:custGeom>
            <a:avLst/>
            <a:gdLst>
              <a:gd name="textAreaLeft" fmla="*/ 106200 w 1011240"/>
              <a:gd name="textAreaRight" fmla="*/ 896760 w 1011240"/>
              <a:gd name="textAreaTop" fmla="*/ 487800 h 1365480"/>
              <a:gd name="textAreaBottom" fmla="*/ 1279440 h 13654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00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uzzle2"/>
          <p:cNvSpPr/>
          <p:nvPr/>
        </p:nvSpPr>
        <p:spPr>
          <a:xfrm>
            <a:off x="3851280" y="5300640"/>
            <a:ext cx="1612800" cy="1243080"/>
          </a:xfrm>
          <a:custGeom>
            <a:avLst/>
            <a:gdLst>
              <a:gd name="textAreaLeft" fmla="*/ 402120 w 1612800"/>
              <a:gd name="textAreaRight" fmla="*/ 1207800 w 1612800"/>
              <a:gd name="textAreaTop" fmla="*/ 388080 h 1243080"/>
              <a:gd name="textAreaBottom" fmla="*/ 1176480 h 124308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Puzzle4"/>
          <p:cNvSpPr/>
          <p:nvPr/>
        </p:nvSpPr>
        <p:spPr>
          <a:xfrm>
            <a:off x="2050920" y="3716280"/>
            <a:ext cx="973440" cy="1590840"/>
          </a:xfrm>
          <a:custGeom>
            <a:avLst/>
            <a:gdLst>
              <a:gd name="textAreaLeft" fmla="*/ 93240 w 973440"/>
              <a:gd name="textAreaRight" fmla="*/ 910800 w 973440"/>
              <a:gd name="textAreaTop" fmla="*/ 417240 h 1590840"/>
              <a:gd name="textAreaBottom" fmla="*/ 1176840 h 159084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Puzzle1"/>
          <p:cNvSpPr/>
          <p:nvPr/>
        </p:nvSpPr>
        <p:spPr>
          <a:xfrm>
            <a:off x="4211640" y="3284640"/>
            <a:ext cx="1631880" cy="949320"/>
          </a:xfrm>
          <a:custGeom>
            <a:avLst/>
            <a:gdLst>
              <a:gd name="textAreaLeft" fmla="*/ 459720 w 1631880"/>
              <a:gd name="textAreaRight" fmla="*/ 1218960 w 1631880"/>
              <a:gd name="textAreaTop" fmla="*/ 112680 h 949320"/>
              <a:gd name="textAreaBottom" fmla="*/ 859320 h 94932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00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7" name="Picture 7" descr="012"/>
          <p:cNvPicPr/>
          <p:nvPr/>
        </p:nvPicPr>
        <p:blipFill>
          <a:blip r:embed="rId1"/>
          <a:stretch/>
        </p:blipFill>
        <p:spPr>
          <a:xfrm>
            <a:off x="1908000" y="3933720"/>
            <a:ext cx="1190880" cy="1190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052"/>
          <p:cNvPicPr/>
          <p:nvPr/>
        </p:nvPicPr>
        <p:blipFill>
          <a:blip r:embed="rId2"/>
          <a:stretch/>
        </p:blipFill>
        <p:spPr>
          <a:xfrm>
            <a:off x="3995640" y="522936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212"/>
          <p:cNvPicPr/>
          <p:nvPr/>
        </p:nvPicPr>
        <p:blipFill>
          <a:blip r:embed="rId3"/>
          <a:stretch/>
        </p:blipFill>
        <p:spPr>
          <a:xfrm>
            <a:off x="4427640" y="306864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131"/>
          <p:cNvPicPr/>
          <p:nvPr/>
        </p:nvPicPr>
        <p:blipFill>
          <a:blip r:embed="rId4"/>
          <a:stretch/>
        </p:blipFill>
        <p:spPr>
          <a:xfrm>
            <a:off x="6588000" y="4581360"/>
            <a:ext cx="11908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76284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Из звуков лада можно 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eorgia"/>
              </a:rPr>
              <a:t>«построить» много разных мелодий.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    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660240" y="4244040"/>
            <a:ext cx="2408040" cy="2433600"/>
            <a:chOff x="660240" y="4244040"/>
            <a:chExt cx="2408040" cy="2433600"/>
          </a:xfrm>
        </p:grpSpPr>
        <p:sp>
          <p:nvSpPr>
            <p:cNvPr id="143" name="Puzzle3"/>
            <p:cNvSpPr/>
            <p:nvPr/>
          </p:nvSpPr>
          <p:spPr>
            <a:xfrm rot="20503800">
              <a:off x="1657080" y="4342680"/>
              <a:ext cx="807480" cy="1091520"/>
            </a:xfrm>
            <a:custGeom>
              <a:avLst/>
              <a:gdLst>
                <a:gd name="textAreaLeft" fmla="*/ 84600 w 807480"/>
                <a:gd name="textAreaRight" fmla="*/ 716400 w 807480"/>
                <a:gd name="textAreaTop" fmla="*/ 389880 h 1091520"/>
                <a:gd name="textAreaBottom" fmla="*/ 1022400 h 109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00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Puzzle2"/>
            <p:cNvSpPr/>
            <p:nvPr/>
          </p:nvSpPr>
          <p:spPr>
            <a:xfrm rot="20503800">
              <a:off x="1656000" y="5098680"/>
              <a:ext cx="1288800" cy="993960"/>
            </a:xfrm>
            <a:custGeom>
              <a:avLst/>
              <a:gdLst>
                <a:gd name="textAreaLeft" fmla="*/ 321840 w 1288800"/>
                <a:gd name="textAreaRight" fmla="*/ 965520 w 1288800"/>
                <a:gd name="textAreaTop" fmla="*/ 309960 h 993960"/>
                <a:gd name="textAreaBottom" fmla="*/ 940680 h 9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Puzzle4"/>
            <p:cNvSpPr/>
            <p:nvPr/>
          </p:nvSpPr>
          <p:spPr>
            <a:xfrm rot="20503800">
              <a:off x="1235160" y="5316480"/>
              <a:ext cx="776880" cy="1271160"/>
            </a:xfrm>
            <a:custGeom>
              <a:avLst/>
              <a:gdLst>
                <a:gd name="textAreaLeft" fmla="*/ 74520 w 776880"/>
                <a:gd name="textAreaRight" fmla="*/ 727200 w 776880"/>
                <a:gd name="textAreaTop" fmla="*/ 333000 h 1271160"/>
                <a:gd name="textAreaBottom" fmla="*/ 940320 h 12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Puzzle1"/>
            <p:cNvSpPr/>
            <p:nvPr/>
          </p:nvSpPr>
          <p:spPr>
            <a:xfrm rot="20503800">
              <a:off x="745920" y="4900320"/>
              <a:ext cx="1305000" cy="757800"/>
            </a:xfrm>
            <a:custGeom>
              <a:avLst/>
              <a:gdLst>
                <a:gd name="textAreaLeft" fmla="*/ 367560 w 1305000"/>
                <a:gd name="textAreaRight" fmla="*/ 974520 w 1305000"/>
                <a:gd name="textAreaTop" fmla="*/ 90000 h 757800"/>
                <a:gd name="textAreaBottom" fmla="*/ 685800 h 7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47" name="Group 8"/>
          <p:cNvGrpSpPr/>
          <p:nvPr/>
        </p:nvGrpSpPr>
        <p:grpSpPr>
          <a:xfrm>
            <a:off x="2892600" y="4414680"/>
            <a:ext cx="2040120" cy="2117880"/>
            <a:chOff x="2892600" y="4414680"/>
            <a:chExt cx="2040120" cy="2117880"/>
          </a:xfrm>
        </p:grpSpPr>
        <p:sp>
          <p:nvSpPr>
            <p:cNvPr id="148" name="Puzzle3"/>
            <p:cNvSpPr/>
            <p:nvPr/>
          </p:nvSpPr>
          <p:spPr>
            <a:xfrm rot="6520800">
              <a:off x="3874680" y="5429520"/>
              <a:ext cx="807120" cy="1091520"/>
            </a:xfrm>
            <a:custGeom>
              <a:avLst/>
              <a:gdLst>
                <a:gd name="textAreaLeft" fmla="*/ 84600 w 807120"/>
                <a:gd name="textAreaRight" fmla="*/ 716040 w 807120"/>
                <a:gd name="textAreaTop" fmla="*/ 389880 h 1091520"/>
                <a:gd name="textAreaBottom" fmla="*/ 1022400 h 109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00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Puzzle2"/>
            <p:cNvSpPr/>
            <p:nvPr/>
          </p:nvSpPr>
          <p:spPr>
            <a:xfrm rot="6520800">
              <a:off x="2925000" y="5244840"/>
              <a:ext cx="1288800" cy="993960"/>
            </a:xfrm>
            <a:custGeom>
              <a:avLst/>
              <a:gdLst>
                <a:gd name="textAreaLeft" fmla="*/ 321840 w 1288800"/>
                <a:gd name="textAreaRight" fmla="*/ 965520 w 1288800"/>
                <a:gd name="textAreaTop" fmla="*/ 309960 h 993960"/>
                <a:gd name="textAreaBottom" fmla="*/ 940680 h 9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Puzzle4"/>
            <p:cNvSpPr/>
            <p:nvPr/>
          </p:nvSpPr>
          <p:spPr>
            <a:xfrm rot="6520800">
              <a:off x="3303000" y="4350600"/>
              <a:ext cx="776880" cy="1271160"/>
            </a:xfrm>
            <a:custGeom>
              <a:avLst/>
              <a:gdLst>
                <a:gd name="textAreaLeft" fmla="*/ 74520 w 776880"/>
                <a:gd name="textAreaRight" fmla="*/ 727200 w 776880"/>
                <a:gd name="textAreaTop" fmla="*/ 333000 h 1271160"/>
                <a:gd name="textAreaBottom" fmla="*/ 940320 h 12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Puzzle1"/>
            <p:cNvSpPr/>
            <p:nvPr/>
          </p:nvSpPr>
          <p:spPr>
            <a:xfrm rot="6520800">
              <a:off x="3712320" y="4831560"/>
              <a:ext cx="1304640" cy="757800"/>
            </a:xfrm>
            <a:custGeom>
              <a:avLst/>
              <a:gdLst>
                <a:gd name="textAreaLeft" fmla="*/ 367560 w 1304640"/>
                <a:gd name="textAreaRight" fmla="*/ 974160 w 1304640"/>
                <a:gd name="textAreaTop" fmla="*/ 90000 h 757800"/>
                <a:gd name="textAreaBottom" fmla="*/ 685800 h 7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52" name="Group 13"/>
          <p:cNvGrpSpPr/>
          <p:nvPr/>
        </p:nvGrpSpPr>
        <p:grpSpPr>
          <a:xfrm>
            <a:off x="4744080" y="4249440"/>
            <a:ext cx="2409840" cy="2435760"/>
            <a:chOff x="4744080" y="4249440"/>
            <a:chExt cx="2409840" cy="2435760"/>
          </a:xfrm>
        </p:grpSpPr>
        <p:sp>
          <p:nvSpPr>
            <p:cNvPr id="153" name="Puzzle3"/>
            <p:cNvSpPr/>
            <p:nvPr/>
          </p:nvSpPr>
          <p:spPr>
            <a:xfrm rot="9695400">
              <a:off x="5349960" y="5493960"/>
              <a:ext cx="807120" cy="1091520"/>
            </a:xfrm>
            <a:custGeom>
              <a:avLst/>
              <a:gdLst>
                <a:gd name="textAreaLeft" fmla="*/ 84600 w 807120"/>
                <a:gd name="textAreaRight" fmla="*/ 716040 w 807120"/>
                <a:gd name="textAreaTop" fmla="*/ 389880 h 1091520"/>
                <a:gd name="textAreaBottom" fmla="*/ 1022400 h 109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00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Puzzle2"/>
            <p:cNvSpPr/>
            <p:nvPr/>
          </p:nvSpPr>
          <p:spPr>
            <a:xfrm rot="9695400">
              <a:off x="4867920" y="4835880"/>
              <a:ext cx="1288800" cy="993960"/>
            </a:xfrm>
            <a:custGeom>
              <a:avLst/>
              <a:gdLst>
                <a:gd name="textAreaLeft" fmla="*/ 321840 w 1288800"/>
                <a:gd name="textAreaRight" fmla="*/ 965520 w 1288800"/>
                <a:gd name="textAreaTop" fmla="*/ 309960 h 993960"/>
                <a:gd name="textAreaBottom" fmla="*/ 940680 h 9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Puzzle4"/>
            <p:cNvSpPr/>
            <p:nvPr/>
          </p:nvSpPr>
          <p:spPr>
            <a:xfrm rot="9695400">
              <a:off x="5799960" y="4339440"/>
              <a:ext cx="776880" cy="1271160"/>
            </a:xfrm>
            <a:custGeom>
              <a:avLst/>
              <a:gdLst>
                <a:gd name="textAreaLeft" fmla="*/ 74520 w 776880"/>
                <a:gd name="textAreaRight" fmla="*/ 727200 w 776880"/>
                <a:gd name="textAreaTop" fmla="*/ 333000 h 1271160"/>
                <a:gd name="textAreaBottom" fmla="*/ 940320 h 12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Puzzle1"/>
            <p:cNvSpPr/>
            <p:nvPr/>
          </p:nvSpPr>
          <p:spPr>
            <a:xfrm rot="9695400">
              <a:off x="5762880" y="5268600"/>
              <a:ext cx="1304640" cy="757800"/>
            </a:xfrm>
            <a:custGeom>
              <a:avLst/>
              <a:gdLst>
                <a:gd name="textAreaLeft" fmla="*/ 367560 w 1304640"/>
                <a:gd name="textAreaRight" fmla="*/ 974160 w 1304640"/>
                <a:gd name="textAreaTop" fmla="*/ 90000 h 757800"/>
                <a:gd name="textAreaBottom" fmla="*/ 685800 h 7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57" name="Group 18"/>
          <p:cNvGrpSpPr/>
          <p:nvPr/>
        </p:nvGrpSpPr>
        <p:grpSpPr>
          <a:xfrm>
            <a:off x="6918120" y="4327560"/>
            <a:ext cx="2033640" cy="2111040"/>
            <a:chOff x="6918120" y="4327560"/>
            <a:chExt cx="2033640" cy="2111040"/>
          </a:xfrm>
        </p:grpSpPr>
        <p:sp>
          <p:nvSpPr>
            <p:cNvPr id="158" name="Puzzle3"/>
            <p:cNvSpPr/>
            <p:nvPr/>
          </p:nvSpPr>
          <p:spPr>
            <a:xfrm rot="17306400">
              <a:off x="7162920" y="4336920"/>
              <a:ext cx="807120" cy="1091520"/>
            </a:xfrm>
            <a:custGeom>
              <a:avLst/>
              <a:gdLst>
                <a:gd name="textAreaLeft" fmla="*/ 84600 w 807120"/>
                <a:gd name="textAreaRight" fmla="*/ 716040 w 807120"/>
                <a:gd name="textAreaTop" fmla="*/ 389880 h 1091520"/>
                <a:gd name="textAreaBottom" fmla="*/ 1022400 h 109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00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Puzzle2"/>
            <p:cNvSpPr/>
            <p:nvPr/>
          </p:nvSpPr>
          <p:spPr>
            <a:xfrm rot="17306400">
              <a:off x="7632000" y="4616280"/>
              <a:ext cx="1288800" cy="993960"/>
            </a:xfrm>
            <a:custGeom>
              <a:avLst/>
              <a:gdLst>
                <a:gd name="textAreaLeft" fmla="*/ 321840 w 1288800"/>
                <a:gd name="textAreaRight" fmla="*/ 965520 w 1288800"/>
                <a:gd name="textAreaTop" fmla="*/ 309960 h 993960"/>
                <a:gd name="textAreaBottom" fmla="*/ 940680 h 9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Puzzle4"/>
            <p:cNvSpPr/>
            <p:nvPr/>
          </p:nvSpPr>
          <p:spPr>
            <a:xfrm rot="17306400">
              <a:off x="7769520" y="5233320"/>
              <a:ext cx="776880" cy="1271160"/>
            </a:xfrm>
            <a:custGeom>
              <a:avLst/>
              <a:gdLst>
                <a:gd name="textAreaLeft" fmla="*/ 74520 w 776880"/>
                <a:gd name="textAreaRight" fmla="*/ 727200 w 776880"/>
                <a:gd name="textAreaTop" fmla="*/ 333000 h 1271160"/>
                <a:gd name="textAreaBottom" fmla="*/ 940320 h 12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1" name="Puzzle1"/>
            <p:cNvSpPr/>
            <p:nvPr/>
          </p:nvSpPr>
          <p:spPr>
            <a:xfrm rot="17306400">
              <a:off x="6831360" y="5268960"/>
              <a:ext cx="1304640" cy="757800"/>
            </a:xfrm>
            <a:custGeom>
              <a:avLst/>
              <a:gdLst>
                <a:gd name="textAreaLeft" fmla="*/ 367560 w 1304640"/>
                <a:gd name="textAreaRight" fmla="*/ 974160 w 1304640"/>
                <a:gd name="textAreaTop" fmla="*/ 90000 h 757800"/>
                <a:gd name="textAreaBottom" fmla="*/ 685800 h 7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07:11:38Z</dcterms:created>
  <dc:creator>Палецких Е.В.</dc:creator>
  <dc:description/>
  <dc:language>en-US</dc:language>
  <cp:lastModifiedBy>Палецких Елена</cp:lastModifiedBy>
  <dcterms:modified xsi:type="dcterms:W3CDTF">2012-01-08T14:21:26Z</dcterms:modified>
  <cp:revision>198</cp:revision>
  <dc:subject/>
  <dc:title>Лад</dc:title>
</cp:coreProperties>
</file>